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applause.wav" ContentType="audio/x-wav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16E2-3D07-4613-83F3-89DA49CEA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C67F-8C00-4D4C-8DDD-681C996C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根的定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0C8-1B5C-433C-832B-70AB61A1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F34-BFE8-4A9D-B6FB-41D0A70D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6E7-A3C2-4772-8C97-6BD3DC0B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6F8-5226-4159-A3A3-F2E97462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914-20D4-4EF1-8D33-F45A3FF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5D6-E0B4-4C08-B7E1-1652BC6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5D9-D6CF-4874-90B6-E0475222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95E-746F-41A7-85AF-97F8C15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5C6-BB92-40FC-82D8-2727A9CE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3AF-05F8-42D1-ACAE-172EB97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C96-785C-417E-B04B-509CF1E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D2D-3658-404D-ADDE-4E8036A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DDD-D0A1-47C6-8E3E-F14800FDF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8.gif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922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楷体"/>
                <a:ea typeface="楷体"/>
              </a:rPr>
              <a:t>15.3.1  </a:t>
            </a:r>
            <a:r>
              <a:rPr b="1" lang="zh-CN" sz="4800" spc="-1" strike="noStrike">
                <a:solidFill>
                  <a:srgbClr val="0d0d0d"/>
                </a:solidFill>
                <a:latin typeface="楷体"/>
                <a:ea typeface="楷体"/>
              </a:rPr>
              <a:t>分式方程（１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5"/>
          <p:cNvGraphicFramePr/>
          <p:nvPr/>
        </p:nvGraphicFramePr>
        <p:xfrm>
          <a:off x="3008160" y="382680"/>
          <a:ext cx="54262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8160" y="382680"/>
                    <a:ext cx="54262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3104640" y="619920"/>
            <a:ext cx="46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解分式方程容易犯的错误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951200" y="1634760"/>
            <a:ext cx="82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1)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去分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，原方程的整式部分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漏乘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94040" y="2885760"/>
            <a:ext cx="85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约去分母后，分子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项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时，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添括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因分数线有括号的作用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992240" y="44427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增根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不舍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1523880" y="2852640"/>
            <a:ext cx="90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在方程的两边都乘以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最简公分母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约去分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化成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整式方程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解这个整式方程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把整式方程的解代入</a:t>
            </a:r>
            <a:r>
              <a:rPr b="1" lang="zh-CN" sz="2800" spc="-1" strike="noStrike">
                <a:solidFill>
                  <a:srgbClr val="ff3300"/>
                </a:solidFill>
                <a:latin typeface="楷体"/>
                <a:ea typeface="楷体"/>
              </a:rPr>
              <a:t>最简公分母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如果最简公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的值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不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则整式方程的解是原分式方程的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否则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，这个解不是原分式方程的解，必须舍去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、写出原方程的根</a:t>
            </a: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28800" y="125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解分式方程的思路是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914400"/>
            <a:ext cx="1218960" cy="5814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分式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086600" y="762120"/>
            <a:ext cx="1523880" cy="64260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整式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267080" y="838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去分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3352680" y="1371600"/>
            <a:ext cx="3657600" cy="2286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0099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232240" y="5927760"/>
            <a:ext cx="4038840" cy="6426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"/>
                <a:ea typeface="楷体"/>
              </a:rPr>
              <a:t>一化二解三检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2682360" y="2232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解分式方程的一般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558800" y="3481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5"/>
          <p:cNvGrpSpPr/>
          <p:nvPr/>
        </p:nvGrpSpPr>
        <p:grpSpPr>
          <a:xfrm>
            <a:off x="2208240" y="1763640"/>
            <a:ext cx="7416360" cy="2643840"/>
            <a:chOff x="2208240" y="1763640"/>
            <a:chExt cx="7416360" cy="2643840"/>
          </a:xfrm>
        </p:grpSpPr>
        <p:sp>
          <p:nvSpPr>
            <p:cNvPr id="124" name="Text Box 16"/>
            <p:cNvSpPr/>
            <p:nvPr/>
          </p:nvSpPr>
          <p:spPr>
            <a:xfrm>
              <a:off x="2208240" y="1844640"/>
              <a:ext cx="7416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当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m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为何值时，方程                         会产生增根        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楷体"/>
                  <a:ea typeface="楷体"/>
                </a:rPr>
                <a:t>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7"/>
                <p:cNvSpPr txBox="1"/>
                <p:nvPr/>
              </p:nvSpPr>
              <p:spPr>
                <a:xfrm>
                  <a:off x="6726600" y="1763640"/>
                  <a:ext cx="275292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WordArt 18"/>
          <p:cNvSpPr txBox="1"/>
          <p:nvPr/>
        </p:nvSpPr>
        <p:spPr>
          <a:xfrm>
            <a:off x="1990800" y="476280"/>
            <a:ext cx="294300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补充练习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135160" y="554040"/>
            <a:ext cx="8031240" cy="401436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解关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方程                           产生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常数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值等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      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(A)-2    (B)-1   (C ) 1   (D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951520" y="1100160"/>
            <a:ext cx="2304360" cy="1178280"/>
            <a:chOff x="5951520" y="1100160"/>
            <a:chExt cx="2304360" cy="1178280"/>
          </a:xfrm>
        </p:grpSpPr>
        <p:grpSp>
          <p:nvGrpSpPr>
            <p:cNvPr id="129" name="Group 5"/>
            <p:cNvGrpSpPr/>
            <p:nvPr/>
          </p:nvGrpSpPr>
          <p:grpSpPr>
            <a:xfrm>
              <a:off x="5951520" y="1100160"/>
              <a:ext cx="823680" cy="1154520"/>
              <a:chOff x="5951520" y="1100160"/>
              <a:chExt cx="823680" cy="1154520"/>
            </a:xfrm>
          </p:grpSpPr>
          <p:sp>
            <p:nvSpPr>
              <p:cNvPr id="130" name="Line 6"/>
              <p:cNvSpPr/>
              <p:nvPr/>
            </p:nvSpPr>
            <p:spPr>
              <a:xfrm>
                <a:off x="5951520" y="1722600"/>
                <a:ext cx="82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7"/>
              <p:cNvSpPr/>
              <p:nvPr/>
            </p:nvSpPr>
            <p:spPr>
              <a:xfrm>
                <a:off x="6026040" y="1100160"/>
                <a:ext cx="72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6035400" y="1673280"/>
                <a:ext cx="72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9"/>
            <p:cNvGrpSpPr/>
            <p:nvPr/>
          </p:nvGrpSpPr>
          <p:grpSpPr>
            <a:xfrm>
              <a:off x="7350840" y="1100160"/>
              <a:ext cx="905040" cy="1178280"/>
              <a:chOff x="7350840" y="1100160"/>
              <a:chExt cx="905040" cy="1178280"/>
            </a:xfrm>
          </p:grpSpPr>
          <p:sp>
            <p:nvSpPr>
              <p:cNvPr id="134" name="Text Box 10"/>
              <p:cNvSpPr/>
              <p:nvPr/>
            </p:nvSpPr>
            <p:spPr>
              <a:xfrm>
                <a:off x="7515720" y="1697040"/>
                <a:ext cx="74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x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1"/>
              <p:cNvSpPr/>
              <p:nvPr/>
            </p:nvSpPr>
            <p:spPr>
              <a:xfrm>
                <a:off x="7350840" y="1722600"/>
                <a:ext cx="82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7531920" y="1100160"/>
                <a:ext cx="51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3"/>
            <p:cNvSpPr/>
            <p:nvPr/>
          </p:nvSpPr>
          <p:spPr>
            <a:xfrm>
              <a:off x="6775560" y="1432080"/>
              <a:ext cx="5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990800" y="476280"/>
            <a:ext cx="6842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一起加油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567160" y="3860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"/>
                <a:ea typeface="楷体"/>
              </a:rPr>
              <a:t>作业：习题</a:t>
            </a:r>
            <a:r>
              <a:rPr b="1" lang="en-US" sz="3600" spc="-1" strike="noStrike">
                <a:solidFill>
                  <a:srgbClr val="006600"/>
                </a:solidFill>
                <a:latin typeface="楷体"/>
                <a:ea typeface="楷体"/>
              </a:rPr>
              <a:t>16.3: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楷体"/>
                <a:ea typeface="楷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816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922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理解什么是分式方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会解分式方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理解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1520" y="41400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自学指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看课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49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页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--15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页练习上方，注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记忆分式方程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熟记解分式方程的步骤，如何将分式方程的转化为整式方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解分式方程为什么必须进行检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理解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产生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057400" y="2286000"/>
          <a:ext cx="16765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水滴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3"/>
          <p:cNvGraphicFramePr/>
          <p:nvPr/>
        </p:nvGraphicFramePr>
        <p:xfrm>
          <a:off x="2209680" y="990720"/>
          <a:ext cx="1487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3" descr="水滴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990720"/>
                    <a:ext cx="1487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4"/>
          <p:cNvGraphicFramePr/>
          <p:nvPr/>
        </p:nvGraphicFramePr>
        <p:xfrm>
          <a:off x="2057400" y="3505320"/>
          <a:ext cx="15541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Object 4" descr="水滴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505320"/>
                    <a:ext cx="1554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4572000" y="2286000"/>
          <a:ext cx="1914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5" descr="水滴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86000"/>
                    <a:ext cx="1914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4191120" y="3505320"/>
                <a:ext cx="22748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6</m:t>
                    </m:r>
                    <m:r>
                      <m:t xml:space="preserve">）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057400" y="4648320"/>
                <a:ext cx="1741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5</m:t>
                    </m:r>
                    <m:r>
                      <m:t xml:space="preserve">）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" name="Object 8"/>
          <p:cNvGraphicFramePr/>
          <p:nvPr/>
        </p:nvGraphicFramePr>
        <p:xfrm>
          <a:off x="4343400" y="4722840"/>
          <a:ext cx="2184480" cy="101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3400" y="4722840"/>
                    <a:ext cx="21844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9"/>
          <p:cNvGraphicFramePr/>
          <p:nvPr/>
        </p:nvGraphicFramePr>
        <p:xfrm>
          <a:off x="4495680" y="990720"/>
          <a:ext cx="216072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990720"/>
                    <a:ext cx="21607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0"/>
          <p:cNvSpPr/>
          <p:nvPr/>
        </p:nvSpPr>
        <p:spPr>
          <a:xfrm>
            <a:off x="18288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方程中，哪些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式方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哪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式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7010280" y="838080"/>
            <a:ext cx="2895480" cy="2514600"/>
            <a:chOff x="7010280" y="838080"/>
            <a:chExt cx="2895480" cy="2514600"/>
          </a:xfrm>
        </p:grpSpPr>
        <p:pic>
          <p:nvPicPr>
            <p:cNvPr id="69" name="Picture 12" descr="ri3hqoey[1]"/>
            <p:cNvPicPr/>
            <p:nvPr/>
          </p:nvPicPr>
          <p:blipFill>
            <a:blip r:embed="rId13"/>
            <a:stretch/>
          </p:blipFill>
          <p:spPr>
            <a:xfrm>
              <a:off x="7010280" y="83808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7696080" y="1600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整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4"/>
          <p:cNvGrpSpPr/>
          <p:nvPr/>
        </p:nvGrpSpPr>
        <p:grpSpPr>
          <a:xfrm>
            <a:off x="7086600" y="3505320"/>
            <a:ext cx="2819520" cy="2666880"/>
            <a:chOff x="7086600" y="3505320"/>
            <a:chExt cx="2819520" cy="2666880"/>
          </a:xfrm>
        </p:grpSpPr>
        <p:pic>
          <p:nvPicPr>
            <p:cNvPr id="72" name="Picture 15" descr="ri3hqoey[1]"/>
            <p:cNvPicPr/>
            <p:nvPr/>
          </p:nvPicPr>
          <p:blipFill>
            <a:blip r:embed="rId14"/>
            <a:stretch/>
          </p:blipFill>
          <p:spPr>
            <a:xfrm>
              <a:off x="7086600" y="350532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6"/>
            <p:cNvSpPr/>
            <p:nvPr/>
          </p:nvSpPr>
          <p:spPr>
            <a:xfrm>
              <a:off x="77724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分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17" descr="34"/>
          <p:cNvPicPr/>
          <p:nvPr/>
        </p:nvPicPr>
        <p:blipFill>
          <a:blip r:embed="rId15"/>
          <a:stretch/>
        </p:blipFill>
        <p:spPr>
          <a:xfrm>
            <a:off x="15238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59167 0.12221 E">
                                      <p:cBhvr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31667 0.53334 E">
                                      <p:cBhvr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61666 0.34444 E">
                                      <p:cBhvr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0.35834 0.36667 E">
                                      <p:cBhvr>
                                        <p:cTn id="5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0834 -0.24444 E">
                                      <p:cBhvr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25 -0.25556 E">
                                      <p:cBhvr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63334 -0.01111 E">
                                      <p:cBhvr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L 0.325 -0.04445 E">
                                      <p:cBhvr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79520" y="371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08240" y="83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我们一起研究下怎么样来解分式方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063880" y="25653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两边同乘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-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4349880" y="3189240"/>
                <a:ext cx="4565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151160" y="3789360"/>
                <a:ext cx="1076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7"/>
          <p:cNvSpPr/>
          <p:nvPr/>
        </p:nvSpPr>
        <p:spPr>
          <a:xfrm>
            <a:off x="2063880" y="5589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解分式方程的过程中体现了一个非常重要的数学思想方法：转化的数学思想（化归思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1523880" y="0"/>
            <a:ext cx="224640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探究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208240" y="450864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检验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：将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v=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代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20+V)(20-V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v=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是原分式方程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224240" y="1413000"/>
                <a:ext cx="27352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5"/>
                                  </p:iterate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79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2319480" y="260280"/>
            <a:ext cx="5646600" cy="1200240"/>
            <a:chOff x="2319480" y="260280"/>
            <a:chExt cx="5646600" cy="1200240"/>
          </a:xfrm>
        </p:grpSpPr>
        <p:sp>
          <p:nvSpPr>
            <p:cNvPr id="85" name="Text Box 3"/>
            <p:cNvSpPr/>
            <p:nvPr/>
          </p:nvSpPr>
          <p:spPr>
            <a:xfrm>
              <a:off x="2319480" y="40320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解分式方程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4"/>
                <p:cNvSpPr txBox="1"/>
                <p:nvPr/>
              </p:nvSpPr>
              <p:spPr>
                <a:xfrm>
                  <a:off x="4870440" y="260280"/>
                  <a:ext cx="309564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Text Box 5"/>
          <p:cNvSpPr/>
          <p:nvPr/>
        </p:nvSpPr>
        <p:spPr>
          <a:xfrm>
            <a:off x="1952640" y="184320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：方程两边同乘以最简公分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x-5)(X+5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42080" y="2492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+5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21000" y="325116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097520" y="335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206800" y="42195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检验：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代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x-5)(X+5) =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x=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是原分式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653360" y="5786280"/>
            <a:ext cx="7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原分式方程无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7031160" y="2563920"/>
            <a:ext cx="3492360" cy="1511280"/>
          </a:xfrm>
          <a:prstGeom prst="wedgeEllipseCallout">
            <a:avLst>
              <a:gd name="adj1" fmla="val -65134"/>
              <a:gd name="adj2" fmla="val 45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为什么会产生增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397320" y="94464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057400" y="4616280"/>
            <a:ext cx="260280" cy="52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701880" y="4265640"/>
            <a:ext cx="260640" cy="520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132440" y="820800"/>
            <a:ext cx="35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135160" y="765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增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去分母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将分式方程转化为整式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的过程中出现的不适合于原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63880" y="33782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产生的原因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式方程两边同乘以一个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</a:rPr>
              <a:t>零因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得的根是整式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而不是分式方程的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以我们解分式方程时一定要代入最简公分母检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8183520" y="4581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56240" y="4581360"/>
            <a:ext cx="20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648240" y="2492280"/>
            <a:ext cx="4824360" cy="581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使最简公分母值为零的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88024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746460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···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3149640" y="1125360"/>
                <a:ext cx="539424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884240" y="2570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解分式方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792520" y="446040"/>
                <a:ext cx="523224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06:02Z</dcterms:created>
  <dc:creator>hdzh</dc:creator>
  <dc:description/>
  <dc:language>en-US</dc:language>
  <cp:lastModifiedBy>长城中学14</cp:lastModifiedBy>
  <dcterms:modified xsi:type="dcterms:W3CDTF">2017-11-23T22:52:30Z</dcterms:modified>
  <cp:revision>54</cp:revision>
  <dc:subject>六十三团中学参赛课件</dc:subject>
  <dc:title>分式方程的应用（１）</dc:title>
</cp:coreProperties>
</file>